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255-125F-4944-89FB-C6F6394B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A63-A65D-4A13-A304-E1E25A9C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C3B-F244-47DA-8026-CBEF8971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9B9-A85C-438A-A42E-A51E5880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8261-9D4B-4DBC-BD22-096DD897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8507-43EF-417F-A05B-662390B5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4CB4-552A-40C2-A255-70AED135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267B-A39D-491B-81DC-DEC65DB1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5ECA-9197-4F6E-98F3-3D9C0B2F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8EAD-41FE-4F29-84C0-8B119BF3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CF99-CF86-4448-8262-F5DCC8B7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40D-9B13-4002-8963-33B0E58F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9EF8-32F4-499C-837A-558F88C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F01A-FBA5-4384-9DCD-4B0E03B1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2D1E-BE69-43A5-8670-8DE16C85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7B49-8EEB-4C07-94D1-23115897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6DD6-E8DA-4891-A042-E4364C30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E89-8B0B-42BB-BD13-509A7F0F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A5F-2B9F-4CA6-BB40-889A0F51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2A1-06C6-4A99-AC15-DE4B716F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E77-17EF-44D7-833A-E06834CE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D5B-A85C-45BE-9E33-91B41E3E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2F0-D3D1-4B05-A18C-3B426AA6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44F-2AE0-4CEE-9839-13733100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78BD-9F8B-49CF-B096-E607F943C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80920" y="117360"/>
              <a:ext cx="66960" cy="2124360"/>
              <a:chOff x="880920" y="117360"/>
              <a:chExt cx="66960" cy="2124360"/>
            </a:xfrm>
          </p:grpSpPr>
          <p:sp>
            <p:nvSpPr>
              <p:cNvPr id="69" name=""/>
              <p:cNvSpPr/>
              <p:nvPr/>
            </p:nvSpPr>
            <p:spPr>
              <a:xfrm>
                <a:off x="880920" y="117360"/>
                <a:ext cx="66960" cy="66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80920" y="347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80920" y="5745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80920" y="10335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80920" y="1260360"/>
                <a:ext cx="66960" cy="66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920" y="14907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0920" y="17175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920" y="1947960"/>
                <a:ext cx="66960" cy="63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920" y="2176560"/>
                <a:ext cx="66960" cy="65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80920" y="804960"/>
                <a:ext cx="66960" cy="63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8664-A45E-46F0-9248-1968F1273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Step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9067680" cy="27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o solve equations with the variable on both side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olve equations containing grouping symb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solve these equation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addition or subtraction property to move all variables to one side of the equal s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equation using the method learned in Chapter 3 Section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ee a few examp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6x - 3 = 2x +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2x        -2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 - 3 =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+3    +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 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sure to check your answ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(4) - 3 =? 2(4) +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- 3 =? 8 +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=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400800" y="4038480"/>
          <a:ext cx="8190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819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 3n + 1 = 7n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n         -3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4n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+5         +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4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     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!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(1.5) + 1 =? 7(1.5)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5 + 1 =? 10.5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= 5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400800" y="4038480"/>
          <a:ext cx="8190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819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’s a tricky 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828440"/>
            <a:ext cx="4495680" cy="46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) 5 + 2(y + 4) = 5(y - 3) +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+ 2y + 8 = 5y - 15 +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combine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y + 13 = 5y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solve. (Subtract 2y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= 3y - 5     (Add 5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 = 3y          (Divide by 3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=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23920" y="19051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+ 2(6 + 4) =? 5(6 - 3) +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+ 2(10) =? 5(3) +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+ 20 =? 15 +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=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400800" y="4800600"/>
          <a:ext cx="8190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800600"/>
                    <a:ext cx="819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ry one with fraction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- 2x = 4x -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= 6x -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= 6x   so x = 3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3521160" cy="1146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29320" y="1600200"/>
            <a:ext cx="3670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each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least comm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minator (8)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 fr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2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53341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(4 + y) - 3 = 4(y - 3) + 2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+ 6y - 3 = 4y - 12 + 2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+ 6y = 6y -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 6y  - 6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= -12  Never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≠ -1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9200" y="19807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(a + 1) - 5 = 3a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a + 3 - 5 = 3a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a - 2 = 3a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a        -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 = -2  Always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r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Real Numb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447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1447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a few on your ow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) 9x + 7 = 3x -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) 8 - 2(y + 1) = -3y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) 8 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 -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    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66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05320" y="1980720"/>
            <a:ext cx="30477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) x = 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) y = -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) z =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1:39:04Z</dcterms:created>
  <dc:creator>HCPS</dc:creator>
  <dc:description/>
  <dc:language>en-US</dc:language>
  <cp:lastModifiedBy>Parkland High School</cp:lastModifiedBy>
  <cp:lastPrinted>2010-10-05T17:06:06Z</cp:lastPrinted>
  <dcterms:modified xsi:type="dcterms:W3CDTF">2010-10-06T16:18:33Z</dcterms:modified>
  <cp:revision>16</cp:revision>
  <dc:subject/>
  <dc:title>3-3 Solving Multi-Step Equations</dc:title>
</cp:coreProperties>
</file>